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5545-05E2-40E2-8DEF-33055C110F9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Times New Roman"/>
              </a:rPr>
              <a:t>When you’re trying to get your child’s concerns on the table and you ask him “What’s up?” there’s a pretty good chance his response will be “I don’t know. Does that mean Plan B is done for? No, but it does mean you have a skill to teach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Hard to believe, but it turns out that the vast majority of solutions encountered by human beings fall into one of three general categories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Remember, Plan B isn’t an exercise in wishful thinking; it’s the hard work of collaborating on mutually satisfactory and doable solution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If the child can’t think of a mutually satisfactory solution, the surrogate frontal lobe is there to help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6DE0-9DA3-49BB-BBC6-0663617FFFB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Calibri"/>
              </a:rPr>
              <a:t>.  Limit setting means that your needs are met and the child’s needs are met.  Plan B sets lim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Calibri"/>
              </a:rPr>
              <a:t>.  Plan A of course is used, for example to stop a child from running in front of a car.  The adult will use physical restraint and go into Plan B af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856D-6E62-4D3D-8A7D-6E54A9FEBEF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310-DEF1-4227-983E-3F0C7C9B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FB5A-70DF-40A4-981B-5151F940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284BC-74F1-4588-BFC8-84158E13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AA085-7436-4276-AEC1-792B6351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D81A6-68F3-492A-B4D9-B9C2B7C6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556D8-604F-411A-A998-AB37AC76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67BCE-9FF3-47DE-903C-03F5B8C2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F635A-9AFD-43C6-BB1B-BFC3B51C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C8293-6353-4C42-B6CC-7F39F72F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C5483-C447-4EF0-8036-A46DF3C6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DDE04F-27D2-47A8-AE49-3DB2D941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B0226-17AC-4481-9297-093B2CE3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578-40EA-48A1-AE49-F2870664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8C0D5-6F9E-41B0-AF05-62BD4122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CEA0F-B626-41A7-B95A-6103AD75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811E58-7DAE-462A-88A0-5E891E46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D6562-3D3C-40BD-ACE7-9EA81266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3CFA4-4587-41D5-9097-1E8DA73C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93696-FE81-43EE-94EF-9E103EC2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39D84-4B74-4957-B319-1F1BAF79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DBE810-7893-4870-B042-865994E8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66E50D-6204-4D7F-862F-F1D9B5CD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27081A-A443-421B-90BF-D24AFC14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F22-4577-41DB-BFB1-53DBA825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D91DF-BE91-4709-B2F6-38F2EC98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5D3B9-0452-468C-BA28-0D3DDAE0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7B2CD-8161-4A5B-8537-C715A09E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8B435-EEE3-44D3-9787-0BC63D6A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BCF4E-C31A-4ABC-8021-A7EE3FCD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BCCA7-0F2F-4921-ADB0-28824ACD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CF2D5-D9AF-4F87-95A5-3A9D031F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A4910-04BB-4894-B903-3FF8E7EF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10D7F-6E0E-46CA-A87A-1F47ACBE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7C57E-F73C-442C-A96B-AC7E6BD9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23CE-CF8F-4624-9F1D-9187603A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EF0B0-CCF8-4584-8544-FE93B615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9831A-5DA5-476B-8132-D3AF16A8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5B011-E563-4847-84DB-626507C4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4E2F4-DAB8-4A6B-A975-11876D00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6EB5FA-62B6-414B-AEAE-20A627A4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6F80B-A7B2-4E57-9497-FDF0AE28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FD363-92A0-4E39-B710-4F1B1DB1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28E7C-9425-4504-9E9A-1BE31ACF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94F7A9-7AC7-4B1A-A9D0-AB87208A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6C2B6-7567-431A-9EED-78D639C4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5F26-3F2E-4463-8873-B6EAE0D9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EEC875-D939-44F4-8F9E-8FA9CC21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02BE4-D7E6-4532-9C65-3DFD45D2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717730-0C1A-4F65-9F91-C4521007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21D8C-2570-4780-B4DE-E772D126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42CA3-5D06-4D75-AE83-813E4510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ECF6-25A7-4F12-8BB0-F84EE14B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4396-2FD4-4EFA-8D47-EC563876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497D-9D9B-4B38-95C9-9F1BB8E6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28C4-1805-451B-9D81-22D3FF38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B8BB-AD11-4A6E-B6D6-5D2B58D9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E9BB-44BC-4153-9C5D-7440D23B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1075-FA30-4C87-9676-CF0D41A4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B1AC-2091-4238-BD32-50ADA399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D5CD-49C6-4C2B-962F-49DEC54F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BE81-C0AD-4F1B-B74B-161D6ED2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D447-903D-455B-B271-AD6D1526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89648-00E0-4C65-B48E-1802562C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0A65B-CE28-4562-8757-36E4CE11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6A45F-2F44-4CC4-BD25-E79BABED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9227D-9773-4C5C-87DF-F1754012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CBB5B-4CAE-48CA-87DB-08327347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699-2290-4572-84B7-EDA076C7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1BE8E-7B71-4AE7-8DED-3F79FD43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F95B5-BC76-4956-86A2-CB54B58E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87760-3D9A-45A9-96B8-E48A7D91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6E1AE-B82D-4D5D-8B43-60C0C289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A7C36-3587-4A91-838B-ADC3FB7A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04533-3B44-42CB-B4BF-5B7E0D8A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E6F66-09FF-4B61-AB73-12559675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CD026-8572-4561-98B2-9C4A3471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88A44-96AB-41F3-BC4C-AD4D9401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20EA4-04D0-4F94-A864-FF56BC02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5CA-E4F6-4BFE-B3B8-CA377C67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0AD05-F053-46CD-94B6-FC5F1026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4243B-341F-4E2A-9984-989D8402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B7C0A-83F0-4FD0-A79A-927D4725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4FE4F-20F5-4208-99E7-D09E0292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04C11-2EB9-4900-9F92-61FD703F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A63D5-4394-4432-BDDA-E34EBD20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EE8FA-89DC-4277-8803-C508C1E3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246F6-6FE1-4F7B-B10A-E1F02284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9F678-7119-4646-8E50-0B4A610F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2E631-E8C6-4682-8950-677E2E9F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EDE-A1C0-4D2D-9AB4-24560785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88E56-13D0-442E-A918-3C5ED51C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0F1F2-D8A6-44A5-A768-AA6121AF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4A03B-1A65-4786-88AE-BBC5DE13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CC552-D48D-4D75-8173-CEA19A41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5703B-2540-4ABD-B080-E919D5FB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6EE80-C278-4A3C-B22D-9549F1D6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43A2B-2568-4C4C-A906-55C5B8C1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9DA5B-6377-4C67-9211-B925590F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76CCE-F97D-48EE-AD3A-C4CAAC3E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C3DD2-E066-40D7-BD1E-64F2B975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A6F-25C6-4512-8213-D7459DC9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1642A-3872-479F-888E-78469F8C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8971C-FC1E-456C-BC2B-E752E761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B9B07-E91E-4105-9182-92D4BB36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1270C-3002-4F9F-BA31-FD319C8A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9783E-59E1-49F4-937B-48F50172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7651F-82C4-4AD5-8A48-4F5A0AFE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932FB-2EF0-4713-88D0-02AD2C1A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29A89-4652-4925-BA94-745BC0AD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5C798-B50F-4F8A-BC39-60653A8D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95034-D47F-494A-BCD9-F3357AD6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DA9-CB0D-4AC0-A14B-35CC9613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04720-03F7-4AF9-94F0-78800FCC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D49BF-B8D7-4692-A1F0-B60DFC0A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68A1E-9AEA-49B1-918A-7CEB7EDD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CD8C8-1546-44FC-9F7F-EB69242A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18441-DBE6-42FF-B4C8-8F335C57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FC70B-6AE6-46FE-964F-9CBB4ADD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F6483-D36D-4B48-95B9-FEE63111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DC2B3-D903-45F6-A27D-6B7CC8A5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55964-B3AB-4278-990A-FF98F85D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A2781-81CB-43B0-8470-A6DC94F9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750-CADB-480A-8DD3-EEFF8F7D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FD066-C4A0-4147-BA5E-8669F61F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40527-AD3B-49BA-AF8B-DB7C2A81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8B637-7BDB-4DD6-8687-7C26F490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0BBBD-95CE-4F9D-BFA7-43223148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271AD-BC0D-402F-A067-95FC6D9C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D49C3-7DD8-4555-960D-9998CE95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5BF8E-5FED-42AB-BADB-89720057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5A222-2CD2-4541-B486-75F4B6F4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40F15-06D5-4D8D-B685-380707FD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47557-D4FB-40EC-B25E-40209CC1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31B-1709-4EEA-833A-6D22610E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CA878-A6BA-4742-A5B3-874AF6CB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3041B-3AA1-4CD0-8B21-7DF84D81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4B4D5-ED63-4232-B406-6BD3A861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78A02-F480-48CC-8235-E9F3B16B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62C75-4AC1-4CE9-9238-F612F79E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5EA93-67F7-4F45-938C-6578D754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D84ED-82C5-4025-A9D1-90781A95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B66EC-A9A9-4067-A32C-18332839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5A6F50-8D53-4FB9-A2B4-344FADB3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65C4F-91E3-4678-87E4-2F87E8E4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E4EA-73CD-4049-9368-23FDC133EDF6}" type="slidenum">
              <a:rPr b="0" lang="en-C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86A0-BA8C-495F-A1E7-736A273BC897}" type="slidenum">
              <a:rPr b="0" lang="en-C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7F39-8B0A-4486-98D0-1988F6A131F8}" type="slidenum">
              <a:rPr b="0" lang="en-C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8DCD-72A1-478C-8A39-082F8959B61A}" type="slidenum">
              <a:rPr b="0" lang="en-C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4D54-5B2D-49C6-B4D0-06ED8E6330A2}" type="slidenum">
              <a:rPr b="0" lang="en-C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EC7B-0986-4825-8B36-EC98576BE71F}" type="slidenum">
              <a:rPr b="0" lang="en-C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8563-411C-4AC0-8E8C-C51F9459DCF3}" type="slidenum">
              <a:rPr b="0" lang="en-C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E582-EDB6-4BB1-83A2-A8ACE8DFC151}" type="slidenum">
              <a:rPr b="0" lang="en-C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9129-34C2-42E2-8817-118964CB126D}" type="slidenum">
              <a:rPr b="0" lang="en-C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3417-F628-40F4-AA7D-CE029E78C287}" type="slidenum">
              <a:rPr b="0" lang="en-C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4128-DE08-47B1-803F-8BAD8663CF99}" type="slidenum">
              <a:rPr b="0" lang="en-C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0F3F-A0B6-4E66-9E02-F956572785A3}" type="slidenum">
              <a:rPr b="0" lang="en-C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ARIEXN1yf00&amp;feature=related" TargetMode="External"/><Relationship Id="rId2" Type="http://schemas.openxmlformats.org/officeDocument/2006/relationships/hyperlink" Target="http://www.youtube.com/watch?v=ARIEXN1yf00&amp;feature=related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UNDERSTANDING THE WHY OF CHALLENGING BEHAVI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ROUGH COLLABORATIVE PROBLEM SOLVING (CPS) MODEL (GREENE 2008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4f81bd"/>
                </a:solidFill>
                <a:latin typeface="Times New Roman"/>
              </a:rPr>
              <a:t>Explosive Child</a:t>
            </a:r>
            <a:br>
              <a:rPr sz="4200"/>
            </a:br>
            <a:r>
              <a:rPr b="1" lang="en-AU" sz="4400" spc="-1" strike="noStrike">
                <a:solidFill>
                  <a:srgbClr val="4f81bd"/>
                </a:solidFill>
                <a:latin typeface="Calibri"/>
                <a:ea typeface="Calibri"/>
              </a:rPr>
              <a:t>Ross W. Greene, Ph.D</a:t>
            </a:r>
            <a:endParaRPr b="0" lang="en-US" sz="4400" spc="-1" strike="noStrike">
              <a:solidFill>
                <a:srgbClr val="88a4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115920"/>
            <a:ext cx="85345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88a44d"/>
                </a:solidFill>
                <a:latin typeface="Arial"/>
              </a:rPr>
              <a:t>Emergency Plan B/ Pro active Plan B</a:t>
            </a:r>
            <a:br>
              <a:rPr sz="3300"/>
            </a:b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Emergency Plan B -increases the time constraints and heat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Pro-active Plan B-  helps to better solve the proble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concern”- no idea of the problem you are trying to solv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I don’t know”- maybe the child really does not kno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-Pro active Plan B provides the child with the opportunities to give the matter some though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88a44d"/>
                </a:solidFill>
                <a:latin typeface="Arial"/>
              </a:rPr>
              <a:t>CPS</a:t>
            </a: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Kid getting concerns on the table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Taking yours into accou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Working collaboratively toward a solution that works for both of you 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Explosions are reduc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Child is taking responsibilit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6" name="Straight Arrow Connector 4"/>
          <p:cNvCxnSpPr/>
          <p:nvPr/>
        </p:nvCxnSpPr>
        <p:spPr>
          <a:xfrm>
            <a:off x="2339640" y="3428640"/>
            <a:ext cx="1080" cy="6483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88a44d"/>
                </a:solidFill>
                <a:latin typeface="Arial"/>
              </a:rPr>
              <a:t>Scenario</a:t>
            </a: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pic>
        <p:nvPicPr>
          <p:cNvPr id="638" name="Content Placeholder 2" descr=""/>
          <p:cNvPicPr/>
          <p:nvPr/>
        </p:nvPicPr>
        <p:blipFill>
          <a:blip r:embed="rId1"/>
          <a:stretch/>
        </p:blipFill>
        <p:spPr>
          <a:xfrm>
            <a:off x="189000" y="1195560"/>
            <a:ext cx="86202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CA" sz="3000" spc="-1" strike="noStrike">
                <a:solidFill>
                  <a:srgbClr val="88a44d"/>
                </a:solidFill>
                <a:latin typeface="Arial"/>
              </a:rPr>
              <a:t>Let’s try using some encouraging communication:</a:t>
            </a:r>
            <a:br>
              <a:rPr sz="3000"/>
            </a:br>
            <a:r>
              <a:rPr b="0" lang="en-CA" sz="3000" spc="-1" strike="noStrike">
                <a:solidFill>
                  <a:srgbClr val="88a44d"/>
                </a:solidFill>
                <a:latin typeface="Arial"/>
              </a:rPr>
              <a:t>and help Mark.</a:t>
            </a:r>
            <a:br>
              <a:rPr sz="3000"/>
            </a:br>
            <a:endParaRPr b="0" lang="en-US" sz="30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I’m not saying so because you’re not…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I’m not saying you can’t …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I’m not mad…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You’re not in trouble…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I’m not telling you what to do…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I’m just trying to understand…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imes New Roman"/>
              </a:rPr>
              <a:t>What’s up?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70c0"/>
                </a:solidFill>
                <a:latin typeface="Times New Roman"/>
              </a:rPr>
              <a:t>Please note you can try using Plan A, Pro-active  Plan B, Emergency Plan B, and Plan C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70c0"/>
                </a:solidFill>
                <a:latin typeface="Times New Roman"/>
              </a:rPr>
              <a:t>Pick the chit!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88a44d"/>
                </a:solidFill>
                <a:latin typeface="Arial"/>
              </a:rPr>
              <a:t>Video</a:t>
            </a: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CA" sz="27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youtube.com/watch?v=ARIEXN1yf00&amp;feature=relat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0"/>
            <a:ext cx="853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AU" sz="2900" spc="-1" strike="noStrike">
                <a:solidFill>
                  <a:srgbClr val="88a44d"/>
                </a:solidFill>
                <a:latin typeface="Calibri"/>
                <a:ea typeface="Calibri"/>
              </a:rPr>
              <a:t>Three Ways to manage the Explosive Child -  </a:t>
            </a:r>
            <a:br>
              <a:rPr sz="2900"/>
            </a:br>
            <a:r>
              <a:rPr b="1" lang="en-AU" sz="2900" spc="-1" strike="noStrike">
                <a:solidFill>
                  <a:srgbClr val="88a44d"/>
                </a:solidFill>
                <a:latin typeface="Calibri"/>
                <a:ea typeface="Calibri"/>
              </a:rPr>
              <a:t>Use Plan A, Plan B or Plan C</a:t>
            </a:r>
            <a:br>
              <a:rPr sz="2900"/>
            </a:br>
            <a:endParaRPr b="0" lang="en-US" sz="2900" spc="-1" strike="noStrike">
              <a:solidFill>
                <a:srgbClr val="88a44d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250920" y="1700280"/>
          <a:ext cx="8713800" cy="4687920"/>
        </p:xfrm>
        <a:graphic>
          <a:graphicData uri="http://schemas.openxmlformats.org/drawingml/2006/table">
            <a:tbl>
              <a:tblPr/>
              <a:tblGrid>
                <a:gridCol w="1388880"/>
                <a:gridCol w="7324920"/>
              </a:tblGrid>
              <a:tr h="159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lan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ndles a problem by imposing the adult wil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 explosive outburst occurs when the cognitive demands being placed upon a person, outstrip that person’s capacity to respond adaptiv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f a Plan A is thrown at a child who doesn’t have a Plan A brain, you place a cognitive demand upon the child that outstrips the child’s capacity to respond adaptively.  P. 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lan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A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llaborative Problem Solving  (CPS).  This involves engaging the child in a discussion in which the problem or unmet expectations are resolved in a mutually satisfactory man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lan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rop the expectation for now to avoid an explosion. This doesn’t mean you ‘give in’.  It would be giving in if you started with Plan A and then went to Plan C. The idea of using Plan C is to be proactive and to prevent an explosion.  If you predict that a particular trigger will lead to an explosion, you are being realistic and can focus on the bigger stuff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ing Plan C can lead to stability.  You might use Plan C for homework, using good table manners, getting to school on time, swearing.  Eventually Plan B will be used for the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7" name="Rectangle 1"/>
          <p:cNvSpPr/>
          <p:nvPr/>
        </p:nvSpPr>
        <p:spPr>
          <a:xfrm>
            <a:off x="1512720" y="2178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 algn="ctr">
              <a:lnSpc>
                <a:spcPct val="11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en-AU" sz="2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AU" sz="2500" spc="-1" strike="noStrike">
                <a:solidFill>
                  <a:srgbClr val="000000"/>
                </a:solidFill>
                <a:latin typeface="Calibri"/>
                <a:ea typeface="Calibri"/>
              </a:rPr>
              <a:t>2 ways to do Plan B  </a:t>
            </a:r>
            <a:br>
              <a:rPr sz="2500"/>
            </a:br>
            <a:endParaRPr b="0" lang="en-US" sz="25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  <a:ea typeface="Calibri"/>
              </a:rPr>
              <a:t>Emergency Plan B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Calibri"/>
              </a:rPr>
              <a:t> – use as the child begins to become frust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  <a:ea typeface="Calibri"/>
              </a:rPr>
              <a:t>Proactive Plan B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Calibri"/>
              </a:rPr>
              <a:t>  - gets the problem solved proactively before the child heats up.  It is done by discussing 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88a44d"/>
                </a:solidFill>
                <a:latin typeface="Arial"/>
              </a:rPr>
              <a:t>3 steps for doing Plan B</a:t>
            </a: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5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Calibri"/>
              </a:rPr>
              <a:t>Empathy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Calibri"/>
              </a:rPr>
              <a:t>* Define the Proble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15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Calibri"/>
              </a:rPr>
              <a:t>Invitatio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ree basic skills necessary for your child to participate in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Plan B discussions</a:t>
            </a:r>
            <a:endParaRPr b="0" lang="en-US" sz="24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Times New Roman"/>
              </a:rPr>
              <a:t>Identifying and outlining Concerns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CA" sz="2100" spc="-1" strike="noStrike">
                <a:solidFill>
                  <a:srgbClr val="000000"/>
                </a:solidFill>
                <a:latin typeface="Times New Roman"/>
              </a:rPr>
              <a:t>Phrases you might want to consider teaching your child include </a:t>
            </a:r>
            <a:r>
              <a:rPr b="0" i="1" lang="en-CA" sz="2100" spc="-1" strike="noStrike">
                <a:solidFill>
                  <a:srgbClr val="000000"/>
                </a:solidFill>
                <a:latin typeface="Times New Roman"/>
              </a:rPr>
              <a:t>“Gimme a minute,” “I can’t talk about that right now,” “I need help,” “I don’t feel right,” “This isn’t going the way I thought it would,” </a:t>
            </a:r>
            <a:r>
              <a:rPr b="0" lang="en-CA" sz="2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CA" sz="2100" spc="-1" strike="noStrike">
                <a:solidFill>
                  <a:srgbClr val="000000"/>
                </a:solidFill>
                <a:latin typeface="Times New Roman"/>
              </a:rPr>
              <a:t> “I don’t know what to do.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Times New Roman"/>
              </a:rPr>
              <a:t>2. Considering a Range of Possible Solution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100" spc="-1" strike="noStrike">
                <a:solidFill>
                  <a:srgbClr val="000000"/>
                </a:solidFill>
                <a:latin typeface="Times New Roman"/>
              </a:rPr>
              <a:t>ask for help; (2) meet halfway/give a little; </a:t>
            </a:r>
            <a:r>
              <a:rPr b="0" lang="en-CA" sz="2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CA" sz="2100" spc="-1" strike="noStrike">
                <a:solidFill>
                  <a:srgbClr val="000000"/>
                </a:solidFill>
                <a:latin typeface="Times New Roman"/>
              </a:rPr>
              <a:t> (3) do it a different way. </a:t>
            </a:r>
            <a:r>
              <a:rPr b="0" lang="en-CA" sz="2100" spc="-1" strike="noStrike">
                <a:solidFill>
                  <a:srgbClr val="000000"/>
                </a:solidFill>
                <a:latin typeface="Times New Roman"/>
              </a:rPr>
              <a:t>These categories can be very helpful to children whose pathways are in the language-processing domain, for they simplify the language of problem solving and can be taught through pictures (if words are too cumbersome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Times New Roman"/>
              </a:rPr>
              <a:t>3. Reflect on the Likely Outcome of Solutions and the Degree to Which They are Feasible and Mutually Satisfactory</a:t>
            </a:r>
            <a:r>
              <a:rPr b="0" lang="en-CA" sz="2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Times New Roman"/>
              </a:rPr>
              <a:t>After multiple repetitions the child should be better able to independently generate solutions that are mutually satisfactory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34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88a44d"/>
                </a:solidFill>
                <a:latin typeface="Arial"/>
              </a:rPr>
              <a:t>When Plan B goes wrong!!</a:t>
            </a: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5000"/>
              </a:lnSpc>
              <a:spcBef>
                <a:spcPts val="37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000000"/>
                </a:solidFill>
                <a:latin typeface="Calibri"/>
                <a:ea typeface="Calibri"/>
              </a:rPr>
              <a:t>Things that can go wrong.  P 13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5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Over relying on Emergency Plan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5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Using Plan B as a last re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5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You may be putting solutions on the table instead of conc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5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You may be entering Plan B discussions with preordaine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5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You may be agreeing to solutions that are not realistic, doable or mutually satis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5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You’re feeling as if you’re not very good at Plan B yet, so you’re still using a lot of Plan A instead.  Remember empathy  (not ‘no’) is the first step of Plan B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5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Missing one of more of the three steps – empathy, define the problem, invi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5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child might be lacking skills crucial for participating in Plan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 algn="ctr">
              <a:lnSpc>
                <a:spcPct val="11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Calibri"/>
                <a:ea typeface="Calibri"/>
              </a:rPr>
              <a:t>Common Concerns  and Questions and Responses p 146 -</a:t>
            </a:r>
            <a:br>
              <a:rPr sz="2300"/>
            </a:br>
            <a:endParaRPr b="0" lang="en-US" sz="2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Calibri"/>
              </a:rPr>
              <a:t>People worry that by not using Plan A, the child is not having limits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Calibri"/>
              </a:rPr>
              <a:t>Safety Issues – Problems that cause children to be unsafe are not solved with Plan A;  they get solved with Plan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88a44d"/>
                </a:solidFill>
                <a:latin typeface="Arial"/>
              </a:rPr>
              <a:t>When to Stop using Plan A</a:t>
            </a:r>
            <a:br>
              <a:rPr sz="3000"/>
            </a:br>
            <a:r>
              <a:rPr b="0" lang="en-CA" sz="3000" spc="-1" strike="noStrike">
                <a:solidFill>
                  <a:srgbClr val="88a44d"/>
                </a:solidFill>
                <a:latin typeface="Arial"/>
              </a:rPr>
              <a:t>……Don’t give up on Plan B!!</a:t>
            </a:r>
            <a:endParaRPr b="0" lang="en-US" sz="30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If the child is exploding .STOP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Go to Plan B if possible otherwise go to Plan C and at the next opportunity go to Proactive Plan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Plan B takes too long:  Unsolved problems take more time than solved problems.  The amount of time will decrease as the skills are developed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child won’t do Plan B – this may be because the child lacks the skills to do Plan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88a44d"/>
                </a:solidFill>
                <a:latin typeface="Arial"/>
              </a:rPr>
              <a:t>Why Plan B??</a:t>
            </a:r>
            <a:endParaRPr b="0" lang="en-US" sz="3300" spc="-1" strike="noStrike">
              <a:solidFill>
                <a:srgbClr val="88a44d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Rewards for doing Plan B – fewer explosions and getting along better will usually be reward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Time out – time is often used as a punishment and can exacerbate explosions.  On the other hand, it can be productive for a child and adult to go separate ways so that a discussion can resume af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Working with an explosive child is exhausting and requires a lot of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1:10:20Z</dcterms:created>
  <dc:creator>vanita</dc:creator>
  <dc:description/>
  <dc:language>en-US</dc:language>
  <cp:lastModifiedBy>vanita</cp:lastModifiedBy>
  <dcterms:modified xsi:type="dcterms:W3CDTF">2011-05-04T03:39:20Z</dcterms:modified>
  <cp:revision>12</cp:revision>
  <dc:subject/>
  <dc:title>Explosive Child Ross W. Greene, Ph.D</dc:title>
</cp:coreProperties>
</file>